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7562850" cy="1068863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082600" y="744120"/>
            <a:ext cx="26319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55f5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0840-EFE0-4DF2-A1D0-A25B90BF4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082960" y="744480"/>
            <a:ext cx="263196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スライド番号プレースホルダー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AD90-E694-4D59-941E-62B88DB7A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020A-596B-4681-9C64-5CB9C551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64296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640" y="6437160"/>
            <a:ext cx="64296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A44A-E2DF-47CB-B8BC-6E56C218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1360" y="30873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640" y="64371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1360" y="64371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63BB-1EFB-476F-B690-B5DB6E8C7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20700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40680" y="3087360"/>
            <a:ext cx="20700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14360" y="3087360"/>
            <a:ext cx="20700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640" y="6437160"/>
            <a:ext cx="20700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40680" y="6437160"/>
            <a:ext cx="20700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14360" y="6437160"/>
            <a:ext cx="20700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E1E9-43F4-4759-9CAE-BB2201A32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2B1F-0956-492E-A663-CFDAB1347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66640" y="3087360"/>
            <a:ext cx="6429600" cy="64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D941-4F87-45C4-8892-7AFC4E6E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6429600" cy="64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D85D-B6D8-48EB-A66E-84352EBC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3137400" cy="64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61360" y="3087360"/>
            <a:ext cx="3137400" cy="64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28C3-C845-4562-AF60-8C07E9D8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1F71-DFA8-46A2-8A8C-808F14AF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66640" y="949320"/>
            <a:ext cx="6429600" cy="82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8696-776E-4391-A10C-580BE331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61360" y="3087360"/>
            <a:ext cx="3137400" cy="64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66640" y="64371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60D8-8E0D-4202-AD65-905AE7D4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640" y="3087360"/>
            <a:ext cx="6429600" cy="64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462C-6763-4864-865A-3B921312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3137400" cy="64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61360" y="30873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61360" y="64371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23BE-0CFF-4574-9271-DBFDD44D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61360" y="30873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640" y="6437160"/>
            <a:ext cx="64296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B705-8966-4452-ACCA-62B9D0D0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64296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6640" y="6437160"/>
            <a:ext cx="64296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38DA-4B0A-40A9-AABD-8169CC99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61360" y="30873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640" y="64371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61360" y="64371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251F-32DA-41E5-9EF2-62C44E0C4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20700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740680" y="3087360"/>
            <a:ext cx="20700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14360" y="3087360"/>
            <a:ext cx="20700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66640" y="6437160"/>
            <a:ext cx="20700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740680" y="6437160"/>
            <a:ext cx="20700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914360" y="6437160"/>
            <a:ext cx="20700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8F80-22FB-42C9-B898-7FB377E7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6429600" cy="64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CC39-6D6D-40BF-8D54-B2A9535C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3137400" cy="64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1360" y="3087360"/>
            <a:ext cx="3137400" cy="64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D78E-142E-4E74-9C15-4DACCDB5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0C5D-1493-4CA1-AE54-285CFF85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6640" y="949320"/>
            <a:ext cx="6429600" cy="82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B3B2-57BF-47CF-9580-327E6B08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1360" y="3087360"/>
            <a:ext cx="3137400" cy="64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640" y="64371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6FA7-D451-4E6F-9B6A-4B8C791A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3137400" cy="64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1360" y="30873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1360" y="64371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7BC7-9ADA-495E-873C-5C9235C2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1360" y="30873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640" y="6437160"/>
            <a:ext cx="64296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4D55-17FD-44ED-B316-3152A1DC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55f5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3087360"/>
            <a:ext cx="6429600" cy="64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6280" y="9739080"/>
            <a:ext cx="1576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4440" y="9739080"/>
            <a:ext cx="2394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9440" y="9739080"/>
            <a:ext cx="1576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4604-FE20-49EC-8738-8CCA6F0C7D2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55f5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6640" y="3087360"/>
            <a:ext cx="6429600" cy="64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66280" y="9739080"/>
            <a:ext cx="1576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584440" y="9739080"/>
            <a:ext cx="2394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419440" y="9739080"/>
            <a:ext cx="1576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759C-3188-444A-93A1-3D13179D27A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角丸四角形 87"/>
          <p:cNvSpPr/>
          <p:nvPr/>
        </p:nvSpPr>
        <p:spPr>
          <a:xfrm>
            <a:off x="171360" y="8651880"/>
            <a:ext cx="3702240" cy="194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角丸四角形 5"/>
          <p:cNvSpPr/>
          <p:nvPr/>
        </p:nvSpPr>
        <p:spPr>
          <a:xfrm>
            <a:off x="3987720" y="9736200"/>
            <a:ext cx="3456000" cy="8175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角丸四角形 5"/>
          <p:cNvSpPr/>
          <p:nvPr/>
        </p:nvSpPr>
        <p:spPr>
          <a:xfrm>
            <a:off x="189000" y="6568920"/>
            <a:ext cx="7259400" cy="1965600"/>
          </a:xfrm>
          <a:prstGeom prst="roundRect">
            <a:avLst>
              <a:gd name="adj" fmla="val 1180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角丸四角形 5"/>
          <p:cNvSpPr/>
          <p:nvPr/>
        </p:nvSpPr>
        <p:spPr>
          <a:xfrm>
            <a:off x="3840120" y="2496960"/>
            <a:ext cx="3579840" cy="3195720"/>
          </a:xfrm>
          <a:prstGeom prst="roundRect">
            <a:avLst>
              <a:gd name="adj" fmla="val 1109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角丸四角形 5"/>
          <p:cNvSpPr/>
          <p:nvPr/>
        </p:nvSpPr>
        <p:spPr>
          <a:xfrm>
            <a:off x="93600" y="2535120"/>
            <a:ext cx="3579840" cy="207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角丸四角形 5"/>
          <p:cNvSpPr/>
          <p:nvPr/>
        </p:nvSpPr>
        <p:spPr>
          <a:xfrm>
            <a:off x="3862440" y="600120"/>
            <a:ext cx="3616200" cy="179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-7920" y="-3240"/>
            <a:ext cx="7562880" cy="542880"/>
          </a:xfrm>
          <a:prstGeom prst="rect">
            <a:avLst/>
          </a:prstGeom>
          <a:solidFill>
            <a:srgbClr val="3fa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131760" y="7920"/>
            <a:ext cx="567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6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岡山県コミュニケーションボード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9"/>
          <p:cNvSpPr/>
          <p:nvPr/>
        </p:nvSpPr>
        <p:spPr>
          <a:xfrm>
            <a:off x="5514840" y="96840"/>
            <a:ext cx="18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―</a:t>
            </a:r>
            <a:r>
              <a:rPr b="1" lang="ja-JP" sz="16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スーパー用</a:t>
            </a:r>
            <a:r>
              <a:rPr b="1" lang="en-US" sz="16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―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角丸四角形 5"/>
          <p:cNvSpPr/>
          <p:nvPr/>
        </p:nvSpPr>
        <p:spPr>
          <a:xfrm>
            <a:off x="184320" y="5767560"/>
            <a:ext cx="7253280" cy="707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5"/>
          <p:cNvSpPr/>
          <p:nvPr/>
        </p:nvSpPr>
        <p:spPr>
          <a:xfrm>
            <a:off x="50760" y="415116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スプーン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5"/>
          <p:cNvSpPr/>
          <p:nvPr/>
        </p:nvSpPr>
        <p:spPr>
          <a:xfrm>
            <a:off x="1627200" y="4149720"/>
            <a:ext cx="10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ォーク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1"/>
          <p:cNvSpPr/>
          <p:nvPr/>
        </p:nvSpPr>
        <p:spPr>
          <a:xfrm>
            <a:off x="1936800" y="6600960"/>
            <a:ext cx="37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支払方法は何ですか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5"/>
          <p:cNvSpPr/>
          <p:nvPr/>
        </p:nvSpPr>
        <p:spPr>
          <a:xfrm>
            <a:off x="0" y="33210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割りばし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5"/>
          <p:cNvSpPr/>
          <p:nvPr/>
        </p:nvSpPr>
        <p:spPr>
          <a:xfrm>
            <a:off x="3097080" y="7900920"/>
            <a:ext cx="147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クレジットカード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5"/>
          <p:cNvSpPr/>
          <p:nvPr/>
        </p:nvSpPr>
        <p:spPr>
          <a:xfrm>
            <a:off x="1346040" y="796932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バーコード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／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Q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5"/>
          <p:cNvSpPr/>
          <p:nvPr/>
        </p:nvSpPr>
        <p:spPr>
          <a:xfrm>
            <a:off x="3860640" y="609480"/>
            <a:ext cx="37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ポイントカードはありますか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5"/>
          <p:cNvSpPr/>
          <p:nvPr/>
        </p:nvSpPr>
        <p:spPr>
          <a:xfrm>
            <a:off x="4070520" y="9848880"/>
            <a:ext cx="276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サービスカウンター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お願いしま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5"/>
          <p:cNvSpPr/>
          <p:nvPr/>
        </p:nvSpPr>
        <p:spPr>
          <a:xfrm>
            <a:off x="3873600" y="425304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身分証明書はありますか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角丸四角形 5"/>
          <p:cNvSpPr/>
          <p:nvPr/>
        </p:nvSpPr>
        <p:spPr>
          <a:xfrm>
            <a:off x="103320" y="592200"/>
            <a:ext cx="3578040" cy="1851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5"/>
          <p:cNvSpPr/>
          <p:nvPr/>
        </p:nvSpPr>
        <p:spPr>
          <a:xfrm>
            <a:off x="230040" y="598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レジ袋は必要ですか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図 5" descr=""/>
          <p:cNvPicPr/>
          <p:nvPr/>
        </p:nvPicPr>
        <p:blipFill>
          <a:blip r:embed="rId1"/>
          <a:stretch/>
        </p:blipFill>
        <p:spPr>
          <a:xfrm>
            <a:off x="244440" y="1131840"/>
            <a:ext cx="995400" cy="1022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5"/>
          <p:cNvSpPr/>
          <p:nvPr/>
        </p:nvSpPr>
        <p:spPr>
          <a:xfrm>
            <a:off x="798480" y="1041480"/>
            <a:ext cx="19810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大（　）円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中（　）円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小（　）円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5"/>
          <p:cNvSpPr/>
          <p:nvPr/>
        </p:nvSpPr>
        <p:spPr>
          <a:xfrm>
            <a:off x="-114480" y="8096400"/>
            <a:ext cx="19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現金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図 10" descr=""/>
          <p:cNvPicPr/>
          <p:nvPr/>
        </p:nvPicPr>
        <p:blipFill>
          <a:blip r:embed="rId2"/>
          <a:stretch/>
        </p:blipFill>
        <p:spPr>
          <a:xfrm>
            <a:off x="393840" y="7108920"/>
            <a:ext cx="888840" cy="888840"/>
          </a:xfrm>
          <a:prstGeom prst="rect">
            <a:avLst/>
          </a:prstGeom>
          <a:ln w="0">
            <a:noFill/>
          </a:ln>
        </p:spPr>
      </p:pic>
      <p:pic>
        <p:nvPicPr>
          <p:cNvPr id="114" name="図 15" descr=""/>
          <p:cNvPicPr/>
          <p:nvPr/>
        </p:nvPicPr>
        <p:blipFill>
          <a:blip r:embed="rId3"/>
          <a:stretch/>
        </p:blipFill>
        <p:spPr>
          <a:xfrm>
            <a:off x="2033640" y="7012080"/>
            <a:ext cx="606240" cy="1031760"/>
          </a:xfrm>
          <a:prstGeom prst="rect">
            <a:avLst/>
          </a:prstGeom>
          <a:ln w="0">
            <a:noFill/>
          </a:ln>
        </p:spPr>
      </p:pic>
      <p:pic>
        <p:nvPicPr>
          <p:cNvPr id="115" name="図 17" descr=""/>
          <p:cNvPicPr/>
          <p:nvPr/>
        </p:nvPicPr>
        <p:blipFill>
          <a:blip r:embed="rId4"/>
          <a:stretch/>
        </p:blipFill>
        <p:spPr>
          <a:xfrm>
            <a:off x="3282840" y="7093080"/>
            <a:ext cx="1024200" cy="722160"/>
          </a:xfrm>
          <a:prstGeom prst="rect">
            <a:avLst/>
          </a:prstGeom>
          <a:ln w="0">
            <a:noFill/>
          </a:ln>
        </p:spPr>
      </p:pic>
      <p:pic>
        <p:nvPicPr>
          <p:cNvPr id="116" name="図 18" descr=""/>
          <p:cNvPicPr/>
          <p:nvPr/>
        </p:nvPicPr>
        <p:blipFill>
          <a:blip r:embed="rId5"/>
          <a:stretch/>
        </p:blipFill>
        <p:spPr>
          <a:xfrm>
            <a:off x="4846680" y="6926400"/>
            <a:ext cx="896760" cy="1233360"/>
          </a:xfrm>
          <a:prstGeom prst="rect">
            <a:avLst/>
          </a:prstGeom>
          <a:ln w="0">
            <a:noFill/>
          </a:ln>
        </p:spPr>
      </p:pic>
      <p:pic>
        <p:nvPicPr>
          <p:cNvPr id="117" name="図 19" descr=""/>
          <p:cNvPicPr/>
          <p:nvPr/>
        </p:nvPicPr>
        <p:blipFill>
          <a:blip r:embed="rId6"/>
          <a:stretch/>
        </p:blipFill>
        <p:spPr>
          <a:xfrm>
            <a:off x="6194520" y="6967440"/>
            <a:ext cx="919080" cy="484200"/>
          </a:xfrm>
          <a:prstGeom prst="rect">
            <a:avLst/>
          </a:prstGeom>
          <a:ln w="0">
            <a:noFill/>
          </a:ln>
        </p:spPr>
      </p:pic>
      <p:pic>
        <p:nvPicPr>
          <p:cNvPr id="118" name="図 20" descr=""/>
          <p:cNvPicPr/>
          <p:nvPr/>
        </p:nvPicPr>
        <p:blipFill>
          <a:blip r:embed="rId7"/>
          <a:stretch/>
        </p:blipFill>
        <p:spPr>
          <a:xfrm>
            <a:off x="4149720" y="1109520"/>
            <a:ext cx="1301760" cy="1171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5"/>
          <p:cNvSpPr/>
          <p:nvPr/>
        </p:nvSpPr>
        <p:spPr>
          <a:xfrm>
            <a:off x="244440" y="2552760"/>
            <a:ext cx="32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おつけしますか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5"/>
          <p:cNvSpPr/>
          <p:nvPr/>
        </p:nvSpPr>
        <p:spPr>
          <a:xfrm>
            <a:off x="3938760" y="2452680"/>
            <a:ext cx="35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お酒・たばこの販売につい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年齢確認にご協力ください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右矢印 122"/>
          <p:cNvSpPr/>
          <p:nvPr/>
        </p:nvSpPr>
        <p:spPr>
          <a:xfrm rot="16200000">
            <a:off x="5144040" y="3581640"/>
            <a:ext cx="460440" cy="408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5"/>
          <p:cNvSpPr/>
          <p:nvPr/>
        </p:nvSpPr>
        <p:spPr>
          <a:xfrm>
            <a:off x="5613480" y="348156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eiryo UI"/>
                <a:ea typeface="Meiryo UI"/>
              </a:rPr>
              <a:t>19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図 24" descr=""/>
          <p:cNvPicPr/>
          <p:nvPr/>
        </p:nvPicPr>
        <p:blipFill>
          <a:blip r:embed="rId8"/>
          <a:stretch/>
        </p:blipFill>
        <p:spPr>
          <a:xfrm>
            <a:off x="274680" y="2948040"/>
            <a:ext cx="716040" cy="716040"/>
          </a:xfrm>
          <a:prstGeom prst="rect">
            <a:avLst/>
          </a:prstGeom>
          <a:ln w="0">
            <a:noFill/>
          </a:ln>
        </p:spPr>
      </p:pic>
      <p:pic>
        <p:nvPicPr>
          <p:cNvPr id="124" name="図 25" descr=""/>
          <p:cNvPicPr/>
          <p:nvPr/>
        </p:nvPicPr>
        <p:blipFill>
          <a:blip r:embed="rId9"/>
          <a:stretch/>
        </p:blipFill>
        <p:spPr>
          <a:xfrm>
            <a:off x="450720" y="3637080"/>
            <a:ext cx="292320" cy="949320"/>
          </a:xfrm>
          <a:prstGeom prst="rect">
            <a:avLst/>
          </a:prstGeom>
          <a:ln w="0">
            <a:noFill/>
          </a:ln>
        </p:spPr>
      </p:pic>
      <p:pic>
        <p:nvPicPr>
          <p:cNvPr id="125" name="図 26" descr=""/>
          <p:cNvPicPr/>
          <p:nvPr/>
        </p:nvPicPr>
        <p:blipFill>
          <a:blip r:embed="rId10"/>
          <a:stretch/>
        </p:blipFill>
        <p:spPr>
          <a:xfrm>
            <a:off x="1592280" y="3662280"/>
            <a:ext cx="279360" cy="909720"/>
          </a:xfrm>
          <a:prstGeom prst="rect">
            <a:avLst/>
          </a:prstGeom>
          <a:ln w="0">
            <a:noFill/>
          </a:ln>
        </p:spPr>
      </p:pic>
      <p:pic>
        <p:nvPicPr>
          <p:cNvPr id="126" name="図 27" descr=""/>
          <p:cNvPicPr/>
          <p:nvPr/>
        </p:nvPicPr>
        <p:blipFill>
          <a:blip r:embed="rId11"/>
          <a:stretch/>
        </p:blipFill>
        <p:spPr>
          <a:xfrm>
            <a:off x="6672240" y="9806040"/>
            <a:ext cx="581040" cy="681120"/>
          </a:xfrm>
          <a:prstGeom prst="rect">
            <a:avLst/>
          </a:prstGeom>
          <a:ln w="0">
            <a:noFill/>
          </a:ln>
        </p:spPr>
      </p:pic>
      <p:sp>
        <p:nvSpPr>
          <p:cNvPr id="127" name="乗算 3"/>
          <p:cNvSpPr/>
          <p:nvPr/>
        </p:nvSpPr>
        <p:spPr>
          <a:xfrm>
            <a:off x="2567160" y="1009800"/>
            <a:ext cx="993600" cy="1095120"/>
          </a:xfrm>
          <a:custGeom>
            <a:avLst/>
            <a:gdLst/>
            <a:ahLst/>
            <a:rect l="l" t="t" r="r" b="b"/>
            <a:pathLst>
              <a:path w="993775" h="1095375">
                <a:moveTo>
                  <a:pt x="175037" y="320821"/>
                </a:moveTo>
                <a:lnTo>
                  <a:pt x="302323" y="205342"/>
                </a:lnTo>
                <a:lnTo>
                  <a:pt x="496888" y="419799"/>
                </a:lnTo>
                <a:lnTo>
                  <a:pt x="691452" y="205342"/>
                </a:lnTo>
                <a:lnTo>
                  <a:pt x="818738" y="320821"/>
                </a:lnTo>
                <a:lnTo>
                  <a:pt x="612914" y="547688"/>
                </a:lnTo>
                <a:lnTo>
                  <a:pt x="818738" y="774554"/>
                </a:lnTo>
                <a:lnTo>
                  <a:pt x="691452" y="890033"/>
                </a:lnTo>
                <a:lnTo>
                  <a:pt x="496888" y="675576"/>
                </a:lnTo>
                <a:lnTo>
                  <a:pt x="302323" y="890033"/>
                </a:lnTo>
                <a:lnTo>
                  <a:pt x="175037" y="774554"/>
                </a:lnTo>
                <a:lnTo>
                  <a:pt x="380861" y="547688"/>
                </a:lnTo>
                <a:lnTo>
                  <a:pt x="175037" y="3208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5"/>
          <p:cNvSpPr/>
          <p:nvPr/>
        </p:nvSpPr>
        <p:spPr>
          <a:xfrm>
            <a:off x="2374920" y="1913040"/>
            <a:ext cx="137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いりません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乗算 95"/>
          <p:cNvSpPr/>
          <p:nvPr/>
        </p:nvSpPr>
        <p:spPr>
          <a:xfrm>
            <a:off x="5891040" y="1027080"/>
            <a:ext cx="993960" cy="1095480"/>
          </a:xfrm>
          <a:custGeom>
            <a:avLst/>
            <a:gdLst/>
            <a:ahLst/>
            <a:rect l="l" t="t" r="r" b="b"/>
            <a:pathLst>
              <a:path w="993775" h="1095375">
                <a:moveTo>
                  <a:pt x="175037" y="320821"/>
                </a:moveTo>
                <a:lnTo>
                  <a:pt x="302323" y="205342"/>
                </a:lnTo>
                <a:lnTo>
                  <a:pt x="496888" y="419799"/>
                </a:lnTo>
                <a:lnTo>
                  <a:pt x="691452" y="205342"/>
                </a:lnTo>
                <a:lnTo>
                  <a:pt x="818738" y="320821"/>
                </a:lnTo>
                <a:lnTo>
                  <a:pt x="612914" y="547688"/>
                </a:lnTo>
                <a:lnTo>
                  <a:pt x="818738" y="774554"/>
                </a:lnTo>
                <a:lnTo>
                  <a:pt x="691452" y="890033"/>
                </a:lnTo>
                <a:lnTo>
                  <a:pt x="496888" y="675576"/>
                </a:lnTo>
                <a:lnTo>
                  <a:pt x="302323" y="890033"/>
                </a:lnTo>
                <a:lnTo>
                  <a:pt x="175037" y="774554"/>
                </a:lnTo>
                <a:lnTo>
                  <a:pt x="380861" y="547688"/>
                </a:lnTo>
                <a:lnTo>
                  <a:pt x="175037" y="3208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5"/>
          <p:cNvSpPr/>
          <p:nvPr/>
        </p:nvSpPr>
        <p:spPr>
          <a:xfrm>
            <a:off x="5708520" y="1924200"/>
            <a:ext cx="147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ありません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乗算 108"/>
          <p:cNvSpPr/>
          <p:nvPr/>
        </p:nvSpPr>
        <p:spPr>
          <a:xfrm>
            <a:off x="2563920" y="2994120"/>
            <a:ext cx="993600" cy="1095120"/>
          </a:xfrm>
          <a:custGeom>
            <a:avLst/>
            <a:gdLst/>
            <a:ahLst/>
            <a:rect l="l" t="t" r="r" b="b"/>
            <a:pathLst>
              <a:path w="993775" h="1095375">
                <a:moveTo>
                  <a:pt x="175037" y="320821"/>
                </a:moveTo>
                <a:lnTo>
                  <a:pt x="302323" y="205342"/>
                </a:lnTo>
                <a:lnTo>
                  <a:pt x="496888" y="419799"/>
                </a:lnTo>
                <a:lnTo>
                  <a:pt x="691452" y="205342"/>
                </a:lnTo>
                <a:lnTo>
                  <a:pt x="818738" y="320821"/>
                </a:lnTo>
                <a:lnTo>
                  <a:pt x="612914" y="547688"/>
                </a:lnTo>
                <a:lnTo>
                  <a:pt x="818738" y="774554"/>
                </a:lnTo>
                <a:lnTo>
                  <a:pt x="691452" y="890033"/>
                </a:lnTo>
                <a:lnTo>
                  <a:pt x="496888" y="675576"/>
                </a:lnTo>
                <a:lnTo>
                  <a:pt x="302323" y="890033"/>
                </a:lnTo>
                <a:lnTo>
                  <a:pt x="175037" y="774554"/>
                </a:lnTo>
                <a:lnTo>
                  <a:pt x="380861" y="547688"/>
                </a:lnTo>
                <a:lnTo>
                  <a:pt x="175037" y="3208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5"/>
          <p:cNvSpPr/>
          <p:nvPr/>
        </p:nvSpPr>
        <p:spPr>
          <a:xfrm>
            <a:off x="3938760" y="3173400"/>
            <a:ext cx="34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何歳ですか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乗算 114"/>
          <p:cNvSpPr/>
          <p:nvPr/>
        </p:nvSpPr>
        <p:spPr>
          <a:xfrm>
            <a:off x="5938920" y="4464000"/>
            <a:ext cx="993600" cy="1096920"/>
          </a:xfrm>
          <a:custGeom>
            <a:avLst/>
            <a:gdLst/>
            <a:ahLst/>
            <a:rect l="l" t="t" r="r" b="b"/>
            <a:pathLst>
              <a:path w="993775" h="1096963">
                <a:moveTo>
                  <a:pt x="174996" y="321157"/>
                </a:moveTo>
                <a:lnTo>
                  <a:pt x="302364" y="205769"/>
                </a:lnTo>
                <a:lnTo>
                  <a:pt x="496888" y="420491"/>
                </a:lnTo>
                <a:lnTo>
                  <a:pt x="691411" y="205769"/>
                </a:lnTo>
                <a:lnTo>
                  <a:pt x="818779" y="321157"/>
                </a:lnTo>
                <a:lnTo>
                  <a:pt x="612838" y="548482"/>
                </a:lnTo>
                <a:lnTo>
                  <a:pt x="818779" y="775806"/>
                </a:lnTo>
                <a:lnTo>
                  <a:pt x="691411" y="891194"/>
                </a:lnTo>
                <a:lnTo>
                  <a:pt x="496888" y="676472"/>
                </a:lnTo>
                <a:lnTo>
                  <a:pt x="302364" y="891194"/>
                </a:lnTo>
                <a:lnTo>
                  <a:pt x="174996" y="775806"/>
                </a:lnTo>
                <a:lnTo>
                  <a:pt x="380937" y="548482"/>
                </a:lnTo>
                <a:lnTo>
                  <a:pt x="174996" y="32115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5"/>
          <p:cNvSpPr/>
          <p:nvPr/>
        </p:nvSpPr>
        <p:spPr>
          <a:xfrm>
            <a:off x="5743440" y="528480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ありません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角丸四角形 5"/>
          <p:cNvSpPr/>
          <p:nvPr/>
        </p:nvSpPr>
        <p:spPr>
          <a:xfrm>
            <a:off x="171360" y="4811760"/>
            <a:ext cx="3579840" cy="1671480"/>
          </a:xfrm>
          <a:prstGeom prst="roundRect">
            <a:avLst>
              <a:gd name="adj" fmla="val 149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5"/>
          <p:cNvSpPr/>
          <p:nvPr/>
        </p:nvSpPr>
        <p:spPr>
          <a:xfrm>
            <a:off x="339840" y="4917960"/>
            <a:ext cx="32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いくつ必要ですか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47840" y="5808600"/>
          <a:ext cx="6829200" cy="625680"/>
        </p:xfrm>
        <a:graphic>
          <a:graphicData uri="http://schemas.openxmlformats.org/drawingml/2006/table">
            <a:tbl>
              <a:tblPr/>
              <a:tblGrid>
                <a:gridCol w="682560"/>
                <a:gridCol w="682560"/>
                <a:gridCol w="684000"/>
                <a:gridCol w="682920"/>
                <a:gridCol w="682560"/>
                <a:gridCol w="682560"/>
                <a:gridCol w="682560"/>
                <a:gridCol w="684360"/>
                <a:gridCol w="682560"/>
                <a:gridCol w="682560"/>
              </a:tblGrid>
              <a:tr h="625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5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１</a:t>
                      </a:r>
                      <a:endParaRPr b="1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5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２</a:t>
                      </a:r>
                      <a:endParaRPr b="1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5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３</a:t>
                      </a:r>
                      <a:endParaRPr b="1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5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４</a:t>
                      </a:r>
                      <a:endParaRPr b="1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5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５</a:t>
                      </a:r>
                      <a:endParaRPr b="1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5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６</a:t>
                      </a:r>
                      <a:endParaRPr b="1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5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７</a:t>
                      </a:r>
                      <a:endParaRPr b="1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5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８</a:t>
                      </a:r>
                      <a:endParaRPr b="1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5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９</a:t>
                      </a:r>
                      <a:endParaRPr b="1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5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０</a:t>
                      </a:r>
                      <a:endParaRPr b="1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138" name="Text Box 85"/>
          <p:cNvSpPr/>
          <p:nvPr/>
        </p:nvSpPr>
        <p:spPr>
          <a:xfrm>
            <a:off x="330120" y="5273640"/>
            <a:ext cx="32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何番ですか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5"/>
          <p:cNvSpPr/>
          <p:nvPr/>
        </p:nvSpPr>
        <p:spPr>
          <a:xfrm>
            <a:off x="5802480" y="791352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クーポン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／ポイント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図 20" descr=""/>
          <p:cNvPicPr/>
          <p:nvPr/>
        </p:nvPicPr>
        <p:blipFill>
          <a:blip r:embed="rId12"/>
          <a:stretch/>
        </p:blipFill>
        <p:spPr>
          <a:xfrm rot="20298000">
            <a:off x="6438600" y="7346520"/>
            <a:ext cx="892080" cy="8035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91"/>
          <p:cNvSpPr/>
          <p:nvPr/>
        </p:nvSpPr>
        <p:spPr>
          <a:xfrm>
            <a:off x="934920" y="8712360"/>
            <a:ext cx="21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お探しですか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5"/>
          <p:cNvSpPr/>
          <p:nvPr/>
        </p:nvSpPr>
        <p:spPr>
          <a:xfrm>
            <a:off x="-228600" y="10005840"/>
            <a:ext cx="19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氷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5"/>
          <p:cNvSpPr/>
          <p:nvPr/>
        </p:nvSpPr>
        <p:spPr>
          <a:xfrm>
            <a:off x="1224000" y="10204560"/>
            <a:ext cx="14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ドライアイ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5"/>
          <p:cNvSpPr/>
          <p:nvPr/>
        </p:nvSpPr>
        <p:spPr>
          <a:xfrm>
            <a:off x="2505240" y="10014120"/>
            <a:ext cx="14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子レン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角丸四角形 5"/>
          <p:cNvSpPr/>
          <p:nvPr/>
        </p:nvSpPr>
        <p:spPr>
          <a:xfrm>
            <a:off x="3987720" y="8656560"/>
            <a:ext cx="3449880" cy="959040"/>
          </a:xfrm>
          <a:prstGeom prst="roundRect">
            <a:avLst>
              <a:gd name="adj" fmla="val 2554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5"/>
          <p:cNvSpPr/>
          <p:nvPr/>
        </p:nvSpPr>
        <p:spPr>
          <a:xfrm>
            <a:off x="4287960" y="80694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子マネー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図 10" descr=""/>
          <p:cNvPicPr/>
          <p:nvPr/>
        </p:nvPicPr>
        <p:blipFill>
          <a:blip r:embed="rId13"/>
          <a:stretch/>
        </p:blipFill>
        <p:spPr>
          <a:xfrm>
            <a:off x="6157800" y="8764560"/>
            <a:ext cx="1082880" cy="7333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91"/>
          <p:cNvSpPr/>
          <p:nvPr/>
        </p:nvSpPr>
        <p:spPr>
          <a:xfrm>
            <a:off x="4087800" y="8796240"/>
            <a:ext cx="313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筆談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しましょうか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図 2" descr=""/>
          <p:cNvPicPr/>
          <p:nvPr/>
        </p:nvPicPr>
        <p:blipFill>
          <a:blip r:embed="rId14"/>
          <a:stretch/>
        </p:blipFill>
        <p:spPr>
          <a:xfrm>
            <a:off x="4218120" y="4695840"/>
            <a:ext cx="1385640" cy="884160"/>
          </a:xfrm>
          <a:prstGeom prst="rect">
            <a:avLst/>
          </a:prstGeom>
          <a:ln w="0">
            <a:noFill/>
          </a:ln>
        </p:spPr>
      </p:pic>
      <p:pic>
        <p:nvPicPr>
          <p:cNvPr id="150" name="図 4" descr=""/>
          <p:cNvPicPr/>
          <p:nvPr/>
        </p:nvPicPr>
        <p:blipFill>
          <a:blip r:embed="rId15"/>
          <a:stretch/>
        </p:blipFill>
        <p:spPr>
          <a:xfrm>
            <a:off x="1441440" y="2962440"/>
            <a:ext cx="771480" cy="7729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85"/>
          <p:cNvSpPr/>
          <p:nvPr/>
        </p:nvSpPr>
        <p:spPr>
          <a:xfrm>
            <a:off x="2386080" y="3906720"/>
            <a:ext cx="137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いりません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5"/>
          <p:cNvSpPr/>
          <p:nvPr/>
        </p:nvSpPr>
        <p:spPr>
          <a:xfrm>
            <a:off x="1606680" y="3305160"/>
            <a:ext cx="10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ストロー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5"/>
          <p:cNvSpPr/>
          <p:nvPr/>
        </p:nvSpPr>
        <p:spPr>
          <a:xfrm>
            <a:off x="4195800" y="348300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eiryo UI"/>
                <a:ea typeface="Meiryo UI"/>
              </a:rPr>
              <a:t>2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図 5" descr=""/>
          <p:cNvPicPr/>
          <p:nvPr/>
        </p:nvPicPr>
        <p:blipFill>
          <a:blip r:embed="rId16"/>
          <a:stretch/>
        </p:blipFill>
        <p:spPr>
          <a:xfrm>
            <a:off x="268200" y="9350280"/>
            <a:ext cx="919080" cy="797040"/>
          </a:xfrm>
          <a:prstGeom prst="rect">
            <a:avLst/>
          </a:prstGeom>
          <a:ln w="0">
            <a:noFill/>
          </a:ln>
        </p:spPr>
      </p:pic>
      <p:pic>
        <p:nvPicPr>
          <p:cNvPr id="155" name="図 6" descr=""/>
          <p:cNvPicPr/>
          <p:nvPr/>
        </p:nvPicPr>
        <p:blipFill>
          <a:blip r:embed="rId17"/>
          <a:stretch/>
        </p:blipFill>
        <p:spPr>
          <a:xfrm>
            <a:off x="2795760" y="9290160"/>
            <a:ext cx="946080" cy="742680"/>
          </a:xfrm>
          <a:prstGeom prst="rect">
            <a:avLst/>
          </a:prstGeom>
          <a:ln w="0">
            <a:noFill/>
          </a:ln>
        </p:spPr>
      </p:pic>
      <p:pic>
        <p:nvPicPr>
          <p:cNvPr id="156" name="図 8" descr=""/>
          <p:cNvPicPr/>
          <p:nvPr/>
        </p:nvPicPr>
        <p:blipFill>
          <a:blip r:embed="rId18"/>
          <a:stretch/>
        </p:blipFill>
        <p:spPr>
          <a:xfrm>
            <a:off x="1530360" y="9325080"/>
            <a:ext cx="938160" cy="927000"/>
          </a:xfrm>
          <a:prstGeom prst="rect">
            <a:avLst/>
          </a:prstGeom>
          <a:ln w="0">
            <a:noFill/>
          </a:ln>
        </p:spPr>
      </p:pic>
      <p:sp>
        <p:nvSpPr>
          <p:cNvPr id="157" name="右矢印 83"/>
          <p:cNvSpPr/>
          <p:nvPr/>
        </p:nvSpPr>
        <p:spPr>
          <a:xfrm rot="5400000">
            <a:off x="6574320" y="3594960"/>
            <a:ext cx="460440" cy="40788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2-28T06:02:32Z</dcterms:created>
  <dc:creator/>
  <dc:description/>
  <cp:keywords/>
  <dc:language>en-US</dc:language>
  <cp:lastModifiedBy/>
  <dcterms:modified xsi:type="dcterms:W3CDTF">2024-06-27T07:43:34Z</dcterms:modified>
  <cp:revision>1</cp:revision>
  <dc:subject/>
  <dc:title/>
</cp:coreProperties>
</file>